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A4C-481B-41C2-893E-C361A6FB2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693-5674-4BBB-B1AB-3E30BF7A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F17F-4C43-461E-BB3B-1A5B0EC0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7CE1-ECD3-4BEA-84A9-50F59394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C07-8A52-4C3F-BDB4-6A8D8781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481-22B1-460E-AEBE-CDD2F681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C73-FA06-4ACD-A3EB-34C41284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051-A05C-4BD1-9205-B9FFF729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9D0-ABAF-4243-80C5-D3307D3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FEE-A458-4842-B1FC-DB1EF471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4B3-8DEE-4846-9A31-DD03F0C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085-DB26-43CE-829B-39A51B44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4266-D224-4A7B-B07C-8BBC8536C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. 5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9:14:03Z</dcterms:created>
  <dc:creator>MTSD MTSD</dc:creator>
  <dc:description/>
  <dc:language>en-US</dc:language>
  <cp:lastModifiedBy>MTSD MTSD</cp:lastModifiedBy>
  <dcterms:modified xsi:type="dcterms:W3CDTF">2009-02-26T19:16:14Z</dcterms:modified>
  <cp:revision>1</cp:revision>
  <dc:subject/>
  <dc:title>Great Expectations</dc:title>
</cp:coreProperties>
</file>